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CD4CA-03B9-4107-A0C8-D543ED9FC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B607D-DF18-4A93-A98E-BD6396711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E91C7-E15A-476D-8A1C-7FC541B8C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záložce žadatel opět vyplníte všechna povinná pole. Pole podíl na nákladech – zde uvedete výši podílu žadatele na výdajích projektu, v případě, že nemá žadatel partnera, bude se tato částka rovnat celkovým výdajů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F5AA9-8DE7-4DE5-9D2C-BEB889B22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sledními povinnými poli na této záložce jsou zkušennosti žadatele. Dbejte na konkrétnost uvedených dat vzhledem k projektu. Uvedené zkušenosti musí být ověřiteln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F93BE-65EF-4DDD-9F11-FC86A94F7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je adresa pro doručení shodná s oficiální adresou, je možné použít tlačítko kopírovat záznam a po té už jen změnit typ adresy. V opačném případě zvolíte tlačítko nový záznam a adresu vyplníte. Nezapomeňte po vyplnění všech polí strán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1ED0B-9721-4AB5-BDAF-3AEE0EE17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 této záložky se uvádějí osoby, které budou zastupovat žadatele. Vždy je nutné uvést právě jednoho statutárního zástupce a kontaktní osobu. Musí být uvedeni všichni statutární zástupci se společným podpisovým práv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D8231-2A40-4FE0-92E1-380B1A23B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ložka partner má podobná políčka jako záložka týkající se žadatele. V případě, že do projektu není zapojen žádný partner, záložky týkající se partnera se nezobrazí. V případě, že je do projektu zapojeno více partnerů je možné přidat příslušný počet polí pomoc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8EE12-47CA-4E41-A859-7350A7DE3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lňte zbylá povinná pole dle zadání. Nezapomeňte strán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D9BFE-D91A-46AB-95F6-49A116E0B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vyplnění všech polí opět nezapomeňt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2FCD7-B39B-49E4-A28C-5750629E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záložce žadatel specifikuje konkrétní místo, na které bude mít projekt dopad – území jehož se dotknou přínosy projektu. Oblast území dopadu nemusí být identická s adresou žadatele. Označenými tlačítky probíhá výběr územ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CBCC0-B7E5-4716-B843-E144AEE07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elkem způsobilé výdaje se načítají automati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0DA16-185E-47D1-8EFA-12886F41E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ručka „Jak vyplnit projektovou žádost“ naleznete na webových stránkách MŠM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5C48C-3C0E-4B3B-A05B-8FB2EE145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 podrobně klíčovou aktivitu, dbejte n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ONKRÉTNOS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uvedených dat vzhledem k projektu. Veškeré uvedené skutečnosti jsou základním předmětem hodnocení projektu. KA obsahuje pouze aktivity hrazené z přímých náklad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0F85D-A08D-4856-9900-4785EF28A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armonogram vyplňujte po jednotlivých aktivitách a pro jednotlivé ro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E18D5-B152-4159-A2CF-AF56ADE2A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58C8D-716C-4F28-8176-425910C86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záložce rozpočet projektu žadatel podrobně rozepíše finanční náležitosti jednotlivých relevantních položek.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 rozpočtu není nastavena automatická kontrola limitů jednotlivých kapito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CCAB8-1BD1-4FAF-90CF-1B91505BC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berte z číselníku ze tří možností, jaký vliv má Váš proje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18C5A-47C6-46C2-AF3F-8088F35D9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indikátoru je nutné záložku uložit a použít tlačítko Nový záznam k zadání dalšího indikáto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A3314-BF7F-47C5-A170-3229A80AC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krétní pravidla týkající se povinné publicity naleznete v Příručce pro žadatele a v Příručce pro příjemce. Po zadání každého prvku publicity je nutné záložku uložit a použít tlačítko Nový záznam k zadání dalšího prvku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19027-2250-4205-8F63-12AF6528A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á aplikace Benefit 7 je všem uživatelům přístupná na této internetové adr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E5D30-A9DF-4252-887D-70A4099CA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projektu je nutné záložku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a použít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Nový záznam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zadání dalšího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3D3DC-2BFD-402C-986C-2C1605A80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 zadání každého prvku publicity je nutné záložku uložit a použít tlačítko Nový záznam k zadání dalšího prvku publ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9A30F-B9D5-43F6-B498-49754DD1A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je v žádosti vše v pořádku, objeví se tabulka s textem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Kontrola proběhla v pořádku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0D0AE-131E-4C2B-B767-ADAD11E3A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e důležité aby tištěná verze měla stejný HASH kód s elektronickou finálně uloženou webovou žádost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7076E-2A39-4916-B0F5-0D101EB0F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vním krokem pro vytvoření žádosti o poskytnutí dotace v aplikaci Benefit7 je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registrace uživatel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Na všech záložkách Benefitové žádosti je vždy nezbytné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yplnit žlutá pol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Po vyplnění registračního formuláře Vám bude na mailovou adresu zaslán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aktivační klíč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Na tento klíč kliknete a po té Vám bude účet aktivován.  Po úspěšné aktivaci se můžete přihlásit do aplikace Benefit7 vyplněním přihlašovacích údajů a kliknutím na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řihlásit s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2C1FA-44A6-4C82-AED6-0C662ACD3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Slouží jako seznam/přehled všech vytvořených žádostí, které žadatel vytvořil či k nim má příst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53DBD-95AF-4C28-9FB9-1110A1289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e seznamu formulářů vyberete OP VK – OP Vzdělávání a konkurenceschopnost. Pak je nutné vybrat správný typ výzvy, který je uveden v samotné výzv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935BC-6DDF-4249-87D9-ED9B7C730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a žlutá pole jsou povinná, povinné pole musí být vždy vyplněno. Ostatní pole jsou nepovinná a nebo se vyplní automaticky s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ůběžně ukládejte každou zálož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E1018-853B-40A0-96F1-C758079D3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a této záložce je opět nezbytné doplnit všechna povinná pole. Některé údaje je možné doplnit pomocí číselník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by měl být jednoznačný, stručný a výstižný. Je možné zadat max.50 znak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krácený název, název anglicky. Harmonogram projektu - po vyplnění předpokládaného data zahájení a ukonč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alizace projektu, a po stisknutí tlačítk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uložit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se automaticky doplní předpokládaná doba trvání projektu v měsící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D55D0-63F1-41B3-89DD-451F35D4B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vním krokem k vyplnění této záložky je vyplnění IČ (osmimístné číslo). Správnost IČ je nutné zkontrolovat kliknutím na tlačítk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alidace ARES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 Po úspěšné validaci, dojde k načtení základních údajů uvedených v registru ekonomických subjektů Ministerstva financí Č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C9D2F-EC93-403D-8511-FA4EB9F09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C06-A754-4857-A1F6-EDD7F645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7AA-DC2D-4AD0-84C7-89C0A28A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26667-2D6B-4B14-9067-137A9801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E6884-948C-4E2E-8210-45FAF86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B1F00-1A37-4D89-818D-E587ACB8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1606D-F8E8-4A90-BE49-D56E026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65D98-3617-4C5F-AC48-4030DC8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274EC-705C-48EC-B0FE-A898FF3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6B59A-4C51-496D-A93E-C218C00A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FD9DB-4DC7-4755-AAAD-1A718D6E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E0316-9A39-4297-BAA8-3DFF5554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7A5E9-7B4C-4ED2-AC64-C4475EBD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B40-7476-4C3A-B0D1-82526C68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BDCAE-700E-41B0-918B-21BB4F7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05592-6BE8-43FE-A677-73B5EC97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1273A-3DAF-4F2B-A328-53ED369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5BA6F-F66B-49DA-AB0E-02E7C84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90DFE-7570-477A-80F9-22D8F9C3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8E608-55C3-420D-A0A9-7FAD059A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4E63C-AE7C-488B-9C48-E2490206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0C89F-9999-4B01-AA6F-4BA5255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653D2-14AD-461E-B643-6D771B53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C2BD9-868B-4B82-8C42-42CACEC2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AAE-1529-4D2E-B61C-C96741D8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92D07-6B4F-4ED0-8676-3A8EF933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2AA88-2B44-4C7A-836D-5C4F1952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5B0AC-3997-4815-9666-4F0E9EF1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B0E3-7270-41B8-9C3B-F4358716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01EFA-E5D9-4AF0-979E-92FF7B9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7A23D-85B9-4502-AD72-ED0749E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96F9-9E63-47B4-A648-61EE6B9E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6F6BD-8700-4297-9872-65510632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C1430-BA41-4C52-8095-108B0048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22C96-65F5-4725-A616-D56C151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B719-59FE-4531-91BE-3D116212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65816-89E7-401C-BE07-2317CE1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7764B-0B53-4B59-B374-E00D3E3D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84CE2-C141-478F-9F12-91BF3620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DD163-3C47-488D-BB67-EC693B7A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9D71B-2160-448A-91F8-91B53784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2D721-F27D-4027-8241-E680E193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F943E-344A-46EA-BB55-6774639D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B417E-22B5-4F5F-846A-F9520838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ABF53-17BF-46EB-A9A7-25B43585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6C919-2A0F-40E7-80CD-CA44ED9B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A65-A33B-4B02-B785-14680E29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B32EA-2A46-42DA-8991-5EBA445A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02F30-06AB-4D86-BDF6-DE569EC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3D511-2B4C-4F5D-BD79-9DB7A6C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89B27-A050-4E1B-B6CC-2877917B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6CAA5-5722-485D-B8C3-3165BC55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C11B-1C88-4917-9B7B-EC2FD528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2088-C790-4CC2-9D2B-DCC00239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5031-5823-4754-A7DA-AE6CB0D3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64F-98EE-4EC3-9440-0333034A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035C-38C8-458F-BE2B-FDD4BEA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F7E-D9D7-491F-8788-983ECD0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744A-7B80-4A75-8157-37C760A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EA57-44E5-4F3A-921A-ABE898D9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FD91-2A2E-4468-8B39-7031F44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B369-9630-4C29-AD16-10B64966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7B7E-2612-47A4-A56D-28B3CAA3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A1E3-595B-4E28-B6AC-838D795C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7708-05F9-4B49-851C-59FB284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EC3A-DEDE-46A9-A138-7634ADC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19AA-D40A-4AA1-B481-D3033B69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07B3-3AED-45F5-96DF-50B0C35B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8A9-4AC2-4DB5-BB7B-A3D922CF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A0B7-7EA6-450E-9FC8-D4963E68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1ABC-AC40-4B7D-98A0-648DD78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B124-E22D-4DAA-8BB2-6B3065F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2CFC-5903-440B-9BA8-2397E7B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3067-7A2D-4732-8852-D33EEAF5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36B1-D8BB-4D68-8829-A27118E5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3EBB-52BC-45F0-B27A-80CEA9D9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A619-7D5E-488E-9C2B-75E63F8F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91B5-6165-4724-A8F5-245E227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0B82-CBFA-46DD-8AAA-C0CCFDF2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0B2-C521-4CB3-9ED4-911A25FF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1B47-11E5-4FFD-9B49-087D17BE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F128-9940-4C35-B211-5B711810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4235-6972-4C4A-AA07-C7BD422A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87DD-460C-4391-930D-6450A2B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6EAC-1C34-4162-9840-11C392A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D3C7-E943-449E-AEF3-4A48C213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32DF-402C-49E5-BB42-B0C19684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59D7-4DDC-41D3-89D6-5ECFEF4A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AAE3-1ED5-4682-B975-EF241CC2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42EE-F4C5-422D-8284-D92C921A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D7D-7235-4B06-9640-C3C25C6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1483F-D529-4064-A61C-F8A78938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208D4-334E-44C8-AAE2-AC0A66D4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8D5B-6024-48E7-8966-DC707435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54663-8F17-4BD9-8102-808DD341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FB047-F39A-4B49-88B2-CA8307E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039F8-AAE3-44FB-AA4D-228DF55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7466-3AB1-4F28-A1DB-D600C466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E53C-2DC5-47F8-A07B-45527E4F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30DD-5686-40CF-B282-8C2EC0CA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A9C7-4FEE-42BC-837A-623C8861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FC5-7B40-42CB-89CE-1CD197E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A677-7955-4772-AFF7-98BAAE48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DCC4-71C9-4400-949B-C5A53CB6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8E1B-A150-4E61-A849-DFD20F2C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11D0B-715D-4879-97B7-0E89178C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F93A-C566-45A5-8E10-0CFB70A3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4A51F-3B9D-4F6A-AAD4-16AE5EC1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B9948-C57A-4A85-A253-C51D9BD7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8634-7FCC-42C5-A597-B12ECD2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01222-AE15-441C-841F-6CF7DD1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1415-510D-415E-953A-CFDFA859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0D3-FE73-4145-8572-48E35A63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21039-250F-4C90-985C-56F63281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1DC9-14F6-4FE5-8A3A-EAA16AFB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1A6A4-2544-437C-A8F6-B3C8DB7C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3E03A-4D6E-4D5E-9D02-6D115029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EF4E-D6C5-4445-857A-AD15A6B5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D9541-E300-468C-89D0-94FFC686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C266-E29F-422D-B549-1A1CE0CB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F777-5CE8-42CE-8EE5-F584C679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0338-B6C1-4017-8D73-E9CA1DD6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31F19-9FBC-4A21-8BE1-882EFE8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A1C-94F7-4A56-B169-8A15D84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C41FE-1E43-4263-901F-8E932C8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932CF-E585-4CFA-B0F7-0D397333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BBB29-1B60-46E5-89A4-B5F636EE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5E56D-F383-4D4C-BEB4-E01CC6F3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9F5B0-9D92-4F64-9EF7-AF46B93D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B5682-CA00-48C7-9D68-EF0340BE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7B92-9497-43FE-B2E2-A0F38DCC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5BB1-AC62-4DA9-ABC7-036F92B7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DE514-9CD5-46AA-85F8-39C1774C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9905F-F546-4BD8-A9F5-C0191B63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D8F-BAAE-422A-8118-A77D45F4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D73CA-4AB6-476F-BB8F-3F704505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B8F36-2BD6-404C-AD1C-448A40DA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E5BB-7769-4CD7-AC65-05F0721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6CEE2-33A3-41BC-A5EC-A4BCEE6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D07A5-0396-40F2-AB85-C39F3A76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713F5-F2F1-43B5-AD36-EE78158A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81FD6-685D-4BDF-B3E5-77B2EF32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3DB2F-13C1-4994-96E5-7E77FBD8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94678-5EA2-4E88-9196-D58B3085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A6BB9-4609-43A0-8BB3-481299ED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31952-CC1C-4613-A434-BF48D75849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2C167-F8A8-4D92-8456-03DAFB430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2827265-9C59-4790-9DDA-9C912CF92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70EAC-FC38-4EFD-A9CA-6E2E178432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0667F-5F69-4790-BC1B-C012CE77D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7D25A-AF2F-41E3-AFFE-E05BBB9A44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6C38A-79A3-4608-9CF5-7F1F19D15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47EB1-1F67-4D54-9A13-3000550BA6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5A370-63D2-4FFA-BC63-86B2BF7C6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E518F-EDE8-4741-B3A2-388AD1119E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DF7B8-EC90-4360-8773-B5F25128D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F3EEE-D30A-4CA0-B5B7-5C2F845E8F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F4E73-3C42-4862-B3F1-8CFB55BA3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2D372-091F-4070-BB90-EA9CAC0478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B9567-1660-4591-9F15-D82C26270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26A06-D29B-4995-B251-CA732C971F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A2112-B6E1-4840-B0A4-025AF6A8A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366D7-B5C1-438E-8FB0-238746E17A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7C8CA-3E7A-4990-B02D-20019C8CD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09489-D645-4CF9-BA64-E86915AA5A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43CCF-749F-4213-8813-67D7EA651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406E4-4A71-4282-8BF9-32BB607B9A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8C22A-D32F-4941-854E-45EEDFDB7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39A0D-F681-4B7D-9B5E-0E834069B6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6CBD3-F510-4DE7-9FFC-4CEE88CF7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jak-vyplnit-webovou-zados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2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Verdana"/>
              </a:rPr>
              <a:t>Benefit7</a:t>
            </a:r>
            <a:r>
              <a:rPr b="1" lang="cs-CZ" sz="4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400"/>
            </a:b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Jak vyplnit projektovou žádost“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553920"/>
            <a:ext cx="64008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enisa Kolouchová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61640" y="1952640"/>
            <a:ext cx="69166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    a načtená data neodpovídala skutečnosti, je nutno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ADR (Ministerstvo práce a sociálních věcí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D8425-5775-44CC-948D-27D547379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900000"/>
            <a:ext cx="64580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6E16D-E04C-4B5F-84E0-0E8F2678B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Obrázek 5" descr="1.JPG"/>
          <p:cNvPicPr/>
          <p:nvPr/>
        </p:nvPicPr>
        <p:blipFill>
          <a:blip r:embed="rId1"/>
          <a:stretch/>
        </p:blipFill>
        <p:spPr>
          <a:xfrm>
            <a:off x="1073160" y="1658880"/>
            <a:ext cx="3516480" cy="3774960"/>
          </a:xfrm>
          <a:prstGeom prst="rect">
            <a:avLst/>
          </a:prstGeom>
          <a:ln w="0">
            <a:noFill/>
          </a:ln>
        </p:spPr>
      </p:pic>
      <p:sp>
        <p:nvSpPr>
          <p:cNvPr id="568" name="Obdélníkový popisek 5"/>
          <p:cNvSpPr/>
          <p:nvPr/>
        </p:nvSpPr>
        <p:spPr>
          <a:xfrm flipV="1" rot="10800000">
            <a:off x="5279760" y="2048400"/>
            <a:ext cx="2808360" cy="185724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e9a3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íl žadatele na výdajích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případě, že žadatel nemá partnera = celkové výdaj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869760"/>
            <a:ext cx="64580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24139-7890-40CB-A7E5-46D5CD4E3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703440" y="155088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72" name="Obdélníkový popisek 5"/>
          <p:cNvSpPr/>
          <p:nvPr/>
        </p:nvSpPr>
        <p:spPr>
          <a:xfrm>
            <a:off x="6208560" y="1757520"/>
            <a:ext cx="2227320" cy="3168360"/>
          </a:xfrm>
          <a:prstGeom prst="wedgeRectCallout">
            <a:avLst>
              <a:gd name="adj1" fmla="val -156708"/>
              <a:gd name="adj2" fmla="val -16828"/>
            </a:avLst>
          </a:prstGeom>
          <a:solidFill>
            <a:srgbClr val="ffe9a3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lipsa 6"/>
          <p:cNvSpPr/>
          <p:nvPr/>
        </p:nvSpPr>
        <p:spPr>
          <a:xfrm>
            <a:off x="1886040" y="3887640"/>
            <a:ext cx="372564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Šipka dolů 7"/>
          <p:cNvSpPr/>
          <p:nvPr/>
        </p:nvSpPr>
        <p:spPr>
          <a:xfrm rot="5400000">
            <a:off x="3657960" y="4617000"/>
            <a:ext cx="534960" cy="11523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884160"/>
            <a:ext cx="64580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29B16-654C-4703-B8AA-77503AFEF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 se zakulaceným příčným rohem 5"/>
          <p:cNvSpPr/>
          <p:nvPr/>
        </p:nvSpPr>
        <p:spPr>
          <a:xfrm>
            <a:off x="6477120" y="1693800"/>
            <a:ext cx="182556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– automatický natažena po validaci AR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768240" y="1574640"/>
            <a:ext cx="52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958680"/>
            <a:ext cx="64580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DB8F4-262D-4153-BC4A-F901B7C71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0" descr=""/>
          <p:cNvPicPr/>
          <p:nvPr/>
        </p:nvPicPr>
        <p:blipFill>
          <a:blip r:embed="rId1"/>
          <a:stretch/>
        </p:blipFill>
        <p:spPr>
          <a:xfrm>
            <a:off x="1576440" y="1662120"/>
            <a:ext cx="5767200" cy="3759120"/>
          </a:xfrm>
          <a:prstGeom prst="rect">
            <a:avLst/>
          </a:prstGeom>
          <a:ln w="0">
            <a:noFill/>
          </a:ln>
        </p:spPr>
      </p:pic>
      <p:sp>
        <p:nvSpPr>
          <p:cNvPr id="582" name="Elipsa 7"/>
          <p:cNvSpPr/>
          <p:nvPr/>
        </p:nvSpPr>
        <p:spPr>
          <a:xfrm>
            <a:off x="3006720" y="513396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4897440" y="3908520"/>
            <a:ext cx="1655640" cy="59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A0925-6FF5-463D-ACEE-48B3B22DC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"/>
          <p:cNvPicPr/>
          <p:nvPr/>
        </p:nvPicPr>
        <p:blipFill>
          <a:blip r:embed="rId1"/>
          <a:stretch/>
        </p:blipFill>
        <p:spPr>
          <a:xfrm>
            <a:off x="687240" y="1784520"/>
            <a:ext cx="6116760" cy="372564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804000" y="1784520"/>
            <a:ext cx="166212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Formulář je aktivní pouze v případě, že žadatel na záložce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Projek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volil možnost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Projekt má partnera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61640"/>
            <a:ext cx="645804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47B75-2912-4CAA-91E7-C9DCD9DEB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9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4471920" cy="3776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ový popisek 5"/>
          <p:cNvSpPr/>
          <p:nvPr/>
        </p:nvSpPr>
        <p:spPr>
          <a:xfrm>
            <a:off x="5796000" y="1957320"/>
            <a:ext cx="2330280" cy="2865600"/>
          </a:xfrm>
          <a:prstGeom prst="wedgeRectCallout">
            <a:avLst>
              <a:gd name="adj1" fmla="val -99217"/>
              <a:gd name="adj2" fmla="val -521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případě, že se jedná o partnera s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finančním podílem na rozpočt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, vymezte částku, která   z celkového rozpočtu projektu připadá na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478CD-91A6-45E3-A474-9FCC2CE2E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3020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5043600" y="1770120"/>
            <a:ext cx="2744640" cy="3716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ěnujte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aximální pozornos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lnění těchto záložek. Informace zde zadané slouží jako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základní nástroj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odnocení žádost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6D89C-75A6-46AB-9E8E-8E82DF8A9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délník se zakulaceným příčným rohem 5"/>
          <p:cNvSpPr/>
          <p:nvPr/>
        </p:nvSpPr>
        <p:spPr>
          <a:xfrm>
            <a:off x="5181480" y="2124000"/>
            <a:ext cx="2743200" cy="27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adané oblasti musejí být součástí definovaného prostoru pro Operační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Území určete co nejpřesněji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3508560" cy="3616200"/>
          </a:xfrm>
          <a:prstGeom prst="rect">
            <a:avLst/>
          </a:prstGeom>
          <a:ln w="0">
            <a:noFill/>
          </a:ln>
        </p:spPr>
      </p:pic>
      <p:sp>
        <p:nvSpPr>
          <p:cNvPr id="600" name="Elipsa 6"/>
          <p:cNvSpPr/>
          <p:nvPr/>
        </p:nvSpPr>
        <p:spPr>
          <a:xfrm>
            <a:off x="2397240" y="32986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090440"/>
            <a:ext cx="64580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B4871-4FD5-401D-92B8-D81CAC7E4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3370320" y="1577880"/>
            <a:ext cx="4976640" cy="3716280"/>
          </a:xfrm>
          <a:prstGeom prst="rect">
            <a:avLst/>
          </a:prstGeom>
          <a:ln w="0">
            <a:noFill/>
          </a:ln>
        </p:spPr>
      </p:pic>
      <p:sp>
        <p:nvSpPr>
          <p:cNvPr id="604" name="Obdélník se zakulaceným příčným rohem 5"/>
          <p:cNvSpPr/>
          <p:nvPr/>
        </p:nvSpPr>
        <p:spPr>
          <a:xfrm>
            <a:off x="903240" y="1806480"/>
            <a:ext cx="2187720" cy="1881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všechny klíčové aktivity, které budete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jednotlivých fázích projektu realizovat vy nebo partner projekt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ový popisek 6"/>
          <p:cNvSpPr/>
          <p:nvPr/>
        </p:nvSpPr>
        <p:spPr>
          <a:xfrm>
            <a:off x="903240" y="3938760"/>
            <a:ext cx="2187720" cy="1355400"/>
          </a:xfrm>
          <a:prstGeom prst="wedgeRectCallout">
            <a:avLst>
              <a:gd name="adj1" fmla="val 75685"/>
              <a:gd name="adj2" fmla="val 2609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celkovou výši výdajů na danou aktivi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98120" y="1095120"/>
            <a:ext cx="7418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k vyplnit projektovou žádost</a:t>
            </a:r>
            <a:br>
              <a:rPr sz="2000"/>
            </a:br>
            <a:r>
              <a:rPr b="1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msmt.cz/strukturalni-fondy/jak-vyplnit-webovou-zadost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A0D7F-10BD-472E-BCE0-7FF61BA4A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1430280" y="2146320"/>
            <a:ext cx="63104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117BB-7984-492B-94A1-9DC0D0850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"/>
          <p:cNvPicPr/>
          <p:nvPr/>
        </p:nvPicPr>
        <p:blipFill>
          <a:blip r:embed="rId1"/>
          <a:stretch/>
        </p:blipFill>
        <p:spPr>
          <a:xfrm>
            <a:off x="861840" y="1770120"/>
            <a:ext cx="4915080" cy="3730680"/>
          </a:xfrm>
          <a:prstGeom prst="rect">
            <a:avLst/>
          </a:prstGeom>
          <a:ln w="0">
            <a:noFill/>
          </a:ln>
        </p:spPr>
      </p:pic>
      <p:sp>
        <p:nvSpPr>
          <p:cNvPr id="609" name="Obdélníkový popisek 5"/>
          <p:cNvSpPr/>
          <p:nvPr/>
        </p:nvSpPr>
        <p:spPr>
          <a:xfrm>
            <a:off x="6327720" y="1770120"/>
            <a:ext cx="2122560" cy="2609640"/>
          </a:xfrm>
          <a:prstGeom prst="wedgeRectCallout">
            <a:avLst>
              <a:gd name="adj1" fmla="val -86365"/>
              <a:gd name="adj2" fmla="val 5216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29840" y="1076040"/>
            <a:ext cx="645804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 HARMONOGRAM 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62BE1-996A-491D-AB5A-EE6953DEC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692360" y="1577880"/>
            <a:ext cx="5759280" cy="3154320"/>
          </a:xfrm>
          <a:prstGeom prst="rect">
            <a:avLst/>
          </a:prstGeom>
          <a:ln w="0">
            <a:noFill/>
          </a:ln>
        </p:spPr>
      </p:pic>
      <p:sp>
        <p:nvSpPr>
          <p:cNvPr id="613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harmonogram u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každé klíčové aktivity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ejí být realizovány v časovém rozmezí, které jste uvedli na první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6"/>
          <p:cNvSpPr/>
          <p:nvPr/>
        </p:nvSpPr>
        <p:spPr>
          <a:xfrm>
            <a:off x="1692360" y="3071880"/>
            <a:ext cx="1071360" cy="19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972720"/>
            <a:ext cx="645804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459E0-3611-442E-94E1-AE2A1A704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2392200" y="1711440"/>
            <a:ext cx="5218200" cy="3456000"/>
          </a:xfrm>
          <a:prstGeom prst="rect">
            <a:avLst/>
          </a:prstGeom>
          <a:ln w="0">
            <a:noFill/>
          </a:ln>
        </p:spPr>
      </p:pic>
      <p:sp>
        <p:nvSpPr>
          <p:cNvPr id="619" name="Obdélník se zakulaceným příčným rohem 6"/>
          <p:cNvSpPr/>
          <p:nvPr/>
        </p:nvSpPr>
        <p:spPr>
          <a:xfrm>
            <a:off x="457200" y="1711440"/>
            <a:ext cx="1935000" cy="4027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tolikrát, kolik pozic plánujete (např. 10 metodiků jak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etodik1 (0,2 úv.) metodik2 (0,7 úv.) at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kud budete uvádět pozici kumulativně (např. „metodik 3,0 úv.“, pak 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ový popisek 7"/>
          <p:cNvSpPr/>
          <p:nvPr/>
        </p:nvSpPr>
        <p:spPr>
          <a:xfrm>
            <a:off x="6553080" y="2954160"/>
            <a:ext cx="2090880" cy="2576520"/>
          </a:xfrm>
          <a:prstGeom prst="wedgeRectCallout">
            <a:avLst>
              <a:gd name="adj1" fmla="val -62842"/>
              <a:gd name="adj2" fmla="val -1885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 nabídky vyberte typ pozi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anažerské a administrativní pozice, Odborné pozic</a:t>
            </a: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Vyberte subjekt, který bude danou pozici zajišťova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02960"/>
            <a:ext cx="645804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ROZPOČE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9DC7F-3985-4381-9602-3A06FB388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485640" y="1666800"/>
            <a:ext cx="5861160" cy="353232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ový popisek 7"/>
          <p:cNvSpPr/>
          <p:nvPr/>
        </p:nvSpPr>
        <p:spPr>
          <a:xfrm>
            <a:off x="6553080" y="2035080"/>
            <a:ext cx="2090880" cy="3164040"/>
          </a:xfrm>
          <a:prstGeom prst="wedgeRectCallout">
            <a:avLst>
              <a:gd name="adj1" fmla="val -71310"/>
              <a:gd name="adj2" fmla="val 552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tabulce kliknete na požadovanou položku, která se výběrem barevně zvýrazní          a načte se do polí umístěných pod tabulk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iz následující obráz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29840" y="1031400"/>
            <a:ext cx="64580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ROZPOČE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32314-6F3B-40FE-BF20-3098CC2DC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501480" y="1755720"/>
            <a:ext cx="4194360" cy="3173400"/>
          </a:xfrm>
          <a:prstGeom prst="rect">
            <a:avLst/>
          </a:prstGeom>
          <a:ln w="0">
            <a:noFill/>
          </a:ln>
        </p:spPr>
      </p:pic>
      <p:sp>
        <p:nvSpPr>
          <p:cNvPr id="628" name="Obdélníkový popisek 5"/>
          <p:cNvSpPr/>
          <p:nvPr/>
        </p:nvSpPr>
        <p:spPr>
          <a:xfrm>
            <a:off x="5692680" y="1755720"/>
            <a:ext cx="2611440" cy="1901880"/>
          </a:xfrm>
          <a:prstGeom prst="wedgeRectCallout">
            <a:avLst>
              <a:gd name="adj1" fmla="val -82046"/>
              <a:gd name="adj2" fmla="val -1730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ložka název nákladu se načte automaticky, dle Vašeho výběru. Viz předchozí obrázek. Vyplňte šedá pole: Počet jednotek, jednotka                 a jednotková c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lipsa 6"/>
          <p:cNvSpPr/>
          <p:nvPr/>
        </p:nvSpPr>
        <p:spPr>
          <a:xfrm>
            <a:off x="3573360" y="2149560"/>
            <a:ext cx="10717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7"/>
          <p:cNvSpPr/>
          <p:nvPr/>
        </p:nvSpPr>
        <p:spPr>
          <a:xfrm>
            <a:off x="795240" y="2149560"/>
            <a:ext cx="10699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délníkový popisek 8"/>
          <p:cNvSpPr/>
          <p:nvPr/>
        </p:nvSpPr>
        <p:spPr>
          <a:xfrm>
            <a:off x="5692680" y="3938760"/>
            <a:ext cx="2611440" cy="1474560"/>
          </a:xfrm>
          <a:prstGeom prst="wedgeRectCallout">
            <a:avLst>
              <a:gd name="adj1" fmla="val -82046"/>
              <a:gd name="adj2" fmla="val -1730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Procentuální podíl nepřímých nákladů je specifikován ve výzvě a vypočítávají se </a:t>
            </a:r>
            <a:r>
              <a:rPr b="1" lang="cs-CZ" sz="1100" spc="-1" strike="noStrike">
                <a:solidFill>
                  <a:srgbClr val="000000"/>
                </a:solidFill>
                <a:latin typeface="Verdana"/>
              </a:rPr>
              <a:t>AUTOMATICKY </a:t>
            </a: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dle hodnoty kapitoly 08 – Přímé způsobilé výdaj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01880" y="1091880"/>
            <a:ext cx="718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1D465-2ED0-4B7E-8479-422F9F7C3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26960" y="1784520"/>
            <a:ext cx="4989600" cy="3727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2"/>
          <a:stretch/>
        </p:blipFill>
        <p:spPr>
          <a:xfrm>
            <a:off x="4365720" y="3083040"/>
            <a:ext cx="3819600" cy="880920"/>
          </a:xfrm>
          <a:prstGeom prst="rect">
            <a:avLst/>
          </a:prstGeom>
          <a:ln w="0">
            <a:noFill/>
          </a:ln>
        </p:spPr>
      </p:pic>
      <p:cxnSp>
        <p:nvCxnSpPr>
          <p:cNvPr id="636" name="Přímá spojovací šipka 7"/>
          <p:cNvCxnSpPr/>
          <p:nvPr/>
        </p:nvCxnSpPr>
        <p:spPr>
          <a:xfrm flipH="1">
            <a:off x="4733640" y="2773080"/>
            <a:ext cx="457920" cy="664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37" name="Přímá spojovací šipka 11"/>
          <p:cNvCxnSpPr/>
          <p:nvPr/>
        </p:nvCxnSpPr>
        <p:spPr>
          <a:xfrm flipH="1" flipV="1">
            <a:off x="4733640" y="3642480"/>
            <a:ext cx="457920" cy="575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29840" y="1090440"/>
            <a:ext cx="645804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B3DF8-13A5-4965-9697-32A404396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78408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"/>
          <p:cNvPicPr/>
          <p:nvPr/>
        </p:nvPicPr>
        <p:blipFill>
          <a:blip r:embed="rId2"/>
          <a:stretch/>
        </p:blipFill>
        <p:spPr>
          <a:xfrm>
            <a:off x="784080" y="3465360"/>
            <a:ext cx="4510080" cy="1798920"/>
          </a:xfrm>
          <a:prstGeom prst="rect">
            <a:avLst/>
          </a:prstGeom>
          <a:ln w="0">
            <a:noFill/>
          </a:ln>
        </p:spPr>
      </p:pic>
      <p:sp>
        <p:nvSpPr>
          <p:cNvPr id="642" name="Obdélníkový popisek 6"/>
          <p:cNvSpPr/>
          <p:nvPr/>
        </p:nvSpPr>
        <p:spPr>
          <a:xfrm>
            <a:off x="5557680" y="2286000"/>
            <a:ext cx="2765520" cy="781200"/>
          </a:xfrm>
          <a:prstGeom prst="wedgeRectCallout">
            <a:avLst>
              <a:gd name="adj1" fmla="val -84625"/>
              <a:gd name="adj2" fmla="val 1827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yberte z číselník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délníkový popisek 7"/>
          <p:cNvSpPr/>
          <p:nvPr/>
        </p:nvSpPr>
        <p:spPr>
          <a:xfrm>
            <a:off x="5557680" y="3465360"/>
            <a:ext cx="2765520" cy="1798920"/>
          </a:xfrm>
          <a:prstGeom prst="wedgeRectCallout">
            <a:avLst>
              <a:gd name="adj1" fmla="val -48671"/>
              <a:gd name="adj2" fmla="val 228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Prostředky z EU v Kč 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musí být roven částce v poli Strukturální fond v záložce Přehled financování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Elipsa 8"/>
          <p:cNvSpPr/>
          <p:nvPr/>
        </p:nvSpPr>
        <p:spPr>
          <a:xfrm>
            <a:off x="1865160" y="4906800"/>
            <a:ext cx="1262160" cy="53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71FDD-CB9E-4B3E-8169-1CEB444EC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1065240" y="177012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48" name="Obdélník se zakulaceným příčným rohem 5"/>
          <p:cNvSpPr/>
          <p:nvPr/>
        </p:nvSpPr>
        <p:spPr>
          <a:xfrm>
            <a:off x="6054840" y="1838160"/>
            <a:ext cx="2278080" cy="3565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</a:t>
            </a:r>
            <a:r>
              <a:rPr b="0" lang="cs-CZ" sz="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Elipsa 7"/>
          <p:cNvSpPr/>
          <p:nvPr/>
        </p:nvSpPr>
        <p:spPr>
          <a:xfrm>
            <a:off x="4094280" y="2825640"/>
            <a:ext cx="142848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3BB42-3DF4-4AFB-944B-AE9B88058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53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      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8694D-8050-4B91-83A3-D7A47E6E3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57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29840" y="1211040"/>
            <a:ext cx="6458040" cy="106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E815E-9CD7-4182-B804-23D11F666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"/>
          <p:cNvPicPr/>
          <p:nvPr/>
        </p:nvPicPr>
        <p:blipFill>
          <a:blip r:embed="rId2"/>
          <a:stretch/>
        </p:blipFill>
        <p:spPr>
          <a:xfrm>
            <a:off x="736560" y="2171880"/>
            <a:ext cx="79502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49E62-854F-4D0A-90A3-08A2669FD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779400" y="1784520"/>
            <a:ext cx="5961240" cy="3551040"/>
          </a:xfrm>
          <a:prstGeom prst="rect">
            <a:avLst/>
          </a:prstGeom>
          <a:ln w="0">
            <a:noFill/>
          </a:ln>
        </p:spPr>
      </p:pic>
      <p:sp>
        <p:nvSpPr>
          <p:cNvPr id="662" name="Obdélník se zakulaceným příčným rohem 5"/>
          <p:cNvSpPr/>
          <p:nvPr/>
        </p:nvSpPr>
        <p:spPr>
          <a:xfrm>
            <a:off x="6916680" y="1784520"/>
            <a:ext cx="190044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te        v oblasti rozvoje lidských zdrojů a které jsou financované      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        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        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F1818-E5FF-484E-B75B-5B2EBF0EB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1"/>
          <a:stretch/>
        </p:blipFill>
        <p:spPr>
          <a:xfrm>
            <a:off x="644400" y="1701720"/>
            <a:ext cx="4065840" cy="3637080"/>
          </a:xfrm>
          <a:prstGeom prst="rect">
            <a:avLst/>
          </a:prstGeom>
          <a:ln w="0">
            <a:noFill/>
          </a:ln>
        </p:spPr>
      </p:pic>
      <p:sp>
        <p:nvSpPr>
          <p:cNvPr id="666" name="Obdélník se zakulaceným příčným rohem 5"/>
          <p:cNvSpPr/>
          <p:nvPr/>
        </p:nvSpPr>
        <p:spPr>
          <a:xfrm>
            <a:off x="4903920" y="1784520"/>
            <a:ext cx="3606840" cy="3554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Připoji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, zde vyberte požadovaný  soubo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Přílohy s povinným podpisem naskenujte a přiložte jako obrázek *.jpg, nebo soubor *.pdf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Každá příloha musí mít zaškrtnuto buď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doložena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, nebo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nerelevantní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Elipsa 6"/>
          <p:cNvSpPr/>
          <p:nvPr/>
        </p:nvSpPr>
        <p:spPr>
          <a:xfrm>
            <a:off x="2678040" y="5043600"/>
            <a:ext cx="1214640" cy="29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Elipsa 7"/>
          <p:cNvSpPr/>
          <p:nvPr/>
        </p:nvSpPr>
        <p:spPr>
          <a:xfrm>
            <a:off x="2070000" y="4013280"/>
            <a:ext cx="18226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29840" y="870120"/>
            <a:ext cx="645804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ONTROL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041A3-21A4-4390-8095-C5DB4ED04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1278000" y="1569960"/>
            <a:ext cx="6562800" cy="2881440"/>
          </a:xfrm>
          <a:prstGeom prst="rect">
            <a:avLst/>
          </a:prstGeom>
          <a:ln w="0">
            <a:noFill/>
          </a:ln>
        </p:spPr>
      </p:pic>
      <p:sp>
        <p:nvSpPr>
          <p:cNvPr id="672" name="Obdélník se zakulaceným příčným rohem 5"/>
          <p:cNvSpPr/>
          <p:nvPr/>
        </p:nvSpPr>
        <p:spPr>
          <a:xfrm>
            <a:off x="1330200" y="3730680"/>
            <a:ext cx="6510600" cy="1682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utomaticky proběhne i při spuštění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iza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04724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119040" y="1816200"/>
            <a:ext cx="514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úspěšným ukončením kontroly je třeba 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finalizov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lizací je žádost uzavřena a chráněna proti další editac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má od svého založení přidělen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líč žádosti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olečně s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líčem verze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ý se přiděluje až při finalizaci dochází jejich spojením k vytvoře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nikátního kódu HASH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D230A-B941-4E77-B2E6-D2C3EB62F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1"/>
          <a:stretch/>
        </p:blipFill>
        <p:spPr>
          <a:xfrm>
            <a:off x="774720" y="1816200"/>
            <a:ext cx="2546280" cy="1944720"/>
          </a:xfrm>
          <a:prstGeom prst="rect">
            <a:avLst/>
          </a:prstGeom>
          <a:ln w="0">
            <a:noFill/>
          </a:ln>
        </p:spPr>
      </p:pic>
      <p:sp>
        <p:nvSpPr>
          <p:cNvPr id="677" name="Elipsa 6"/>
          <p:cNvSpPr/>
          <p:nvPr/>
        </p:nvSpPr>
        <p:spPr>
          <a:xfrm>
            <a:off x="833400" y="3083040"/>
            <a:ext cx="1112760" cy="309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délník 7"/>
          <p:cNvSpPr/>
          <p:nvPr/>
        </p:nvSpPr>
        <p:spPr>
          <a:xfrm>
            <a:off x="833400" y="4645080"/>
            <a:ext cx="74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e důležité aby tištěná verze měla stejný HASH kód                         s elektronickou finálně uloženou webovou žádostí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isk a předání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186000" y="1952280"/>
            <a:ext cx="460224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vytiskněte, uložte ve svém počítači a vypalte na CD, které spolu     s vytištěnou žádostí a přílohami odevzdáte na MŠM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dresa pro doručení poštou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Karmelitská 7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118 12  Praha 1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dresa pro osobní odevzdání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Křižíkova 34/148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Helvetica CE"/>
              </a:rPr>
              <a:t>186 00  Praha 8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E4704-CFFB-4DA5-9AFE-E2218F85D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" descr=""/>
          <p:cNvPicPr/>
          <p:nvPr/>
        </p:nvPicPr>
        <p:blipFill>
          <a:blip r:embed="rId1"/>
          <a:stretch/>
        </p:blipFill>
        <p:spPr>
          <a:xfrm>
            <a:off x="861840" y="1952640"/>
            <a:ext cx="2544840" cy="1942920"/>
          </a:xfrm>
          <a:prstGeom prst="rect">
            <a:avLst/>
          </a:prstGeom>
          <a:ln w="0">
            <a:noFill/>
          </a:ln>
        </p:spPr>
      </p:pic>
      <p:sp>
        <p:nvSpPr>
          <p:cNvPr id="683" name="Elipsa 6"/>
          <p:cNvSpPr/>
          <p:nvPr/>
        </p:nvSpPr>
        <p:spPr>
          <a:xfrm>
            <a:off x="722160" y="3645000"/>
            <a:ext cx="1216080" cy="250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330200" y="3238560"/>
            <a:ext cx="608832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468000" indent="-468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468000" indent="-4680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6004C-24EF-4939-AC06-1438DB25F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délník 7"/>
          <p:cNvSpPr/>
          <p:nvPr/>
        </p:nvSpPr>
        <p:spPr>
          <a:xfrm>
            <a:off x="752400" y="2316240"/>
            <a:ext cx="75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technických problémů při vyplňování žádosti se obraťt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29840" y="2286000"/>
            <a:ext cx="6458040" cy="22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i za pozornost</a:t>
            </a:r>
            <a:br>
              <a:rPr sz="2800"/>
            </a:br>
            <a:r>
              <a:rPr b="0" lang="cs-C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9D0D0-22A7-4264-BEB6-766E77BD9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Registrac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první krok vytvoření žádosti</a:t>
            </a:r>
            <a:endParaRPr b="1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B555E-3011-4DEC-9AD1-B611F9B84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935000" y="2171880"/>
            <a:ext cx="52484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0AA03-6FC0-41F3-B097-D51D45972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61604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37" name="Podnadpis 7"/>
          <p:cNvSpPr/>
          <p:nvPr/>
        </p:nvSpPr>
        <p:spPr>
          <a:xfrm>
            <a:off x="1330200" y="4375080"/>
            <a:ext cx="6458040" cy="10731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 - přehled všech vytvořených žádostí, které žadatel vytvořil či k nim má přístu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81A5E-36D2-4734-B1CC-21B777DE6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odnadpis 7"/>
          <p:cNvSpPr/>
          <p:nvPr/>
        </p:nvSpPr>
        <p:spPr>
          <a:xfrm>
            <a:off x="905040" y="4290840"/>
            <a:ext cx="7333920" cy="1168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 nabídce jsou různé typy výzev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ždy je nutno vybrat správný typ výzvy, a to podle druhu projektu. Úplný název výzvy je vždy uveden ve výzvě samotn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905040" y="1770120"/>
            <a:ext cx="7333920" cy="2257200"/>
          </a:xfrm>
          <a:prstGeom prst="rect">
            <a:avLst/>
          </a:prstGeom>
          <a:ln w="0">
            <a:noFill/>
          </a:ln>
        </p:spPr>
      </p:pic>
      <p:sp>
        <p:nvSpPr>
          <p:cNvPr id="542" name="Elipsa 10"/>
          <p:cNvSpPr/>
          <p:nvPr/>
        </p:nvSpPr>
        <p:spPr>
          <a:xfrm>
            <a:off x="4040280" y="3710160"/>
            <a:ext cx="3747960" cy="317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870120"/>
            <a:ext cx="64580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D5355-0BFD-4CC3-8DF5-EBB9EF70C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" descr=""/>
          <p:cNvPicPr/>
          <p:nvPr/>
        </p:nvPicPr>
        <p:blipFill>
          <a:blip r:embed="rId1"/>
          <a:stretch/>
        </p:blipFill>
        <p:spPr>
          <a:xfrm>
            <a:off x="1193760" y="1533600"/>
            <a:ext cx="6594480" cy="2867040"/>
          </a:xfrm>
          <a:prstGeom prst="rect">
            <a:avLst/>
          </a:prstGeom>
          <a:ln w="0">
            <a:noFill/>
          </a:ln>
        </p:spPr>
      </p:pic>
      <p:sp>
        <p:nvSpPr>
          <p:cNvPr id="546" name="Elipsa 6"/>
          <p:cNvSpPr/>
          <p:nvPr/>
        </p:nvSpPr>
        <p:spPr>
          <a:xfrm>
            <a:off x="3063960" y="2212920"/>
            <a:ext cx="2971800" cy="3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Elipsa 7"/>
          <p:cNvSpPr/>
          <p:nvPr/>
        </p:nvSpPr>
        <p:spPr>
          <a:xfrm>
            <a:off x="1193760" y="3908520"/>
            <a:ext cx="2046240" cy="33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/>
          <p:cNvPicPr/>
          <p:nvPr/>
        </p:nvPicPr>
        <p:blipFill>
          <a:blip r:embed="rId2"/>
          <a:stretch/>
        </p:blipFill>
        <p:spPr>
          <a:xfrm>
            <a:off x="3730680" y="409572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49" name="Šipka dolů 8"/>
          <p:cNvSpPr/>
          <p:nvPr/>
        </p:nvSpPr>
        <p:spPr>
          <a:xfrm rot="5400000">
            <a:off x="5190840" y="3671640"/>
            <a:ext cx="536760" cy="11527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odnadpis 7"/>
          <p:cNvSpPr/>
          <p:nvPr/>
        </p:nvSpPr>
        <p:spPr>
          <a:xfrm>
            <a:off x="1193760" y="4668840"/>
            <a:ext cx="6594480" cy="882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</a:t>
            </a:r>
            <a:r>
              <a:rPr b="1" lang="cs-CZ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62000"/>
            <a:ext cx="64580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C6BF6-D48E-4A09-8BB4-E7BC3C332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681200" y="1711440"/>
            <a:ext cx="2093760" cy="3173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3774960" y="1711440"/>
            <a:ext cx="3695760" cy="3504960"/>
          </a:xfrm>
          <a:prstGeom prst="rect">
            <a:avLst/>
          </a:prstGeom>
          <a:ln w="0">
            <a:noFill/>
          </a:ln>
        </p:spPr>
      </p:pic>
      <p:sp>
        <p:nvSpPr>
          <p:cNvPr id="555" name="Elipsa 8"/>
          <p:cNvSpPr/>
          <p:nvPr/>
        </p:nvSpPr>
        <p:spPr>
          <a:xfrm>
            <a:off x="4508640" y="4710240"/>
            <a:ext cx="1774800" cy="349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"/>
          <p:cNvPicPr/>
          <p:nvPr/>
        </p:nvPicPr>
        <p:blipFill>
          <a:blip r:embed="rId3"/>
          <a:stretch/>
        </p:blipFill>
        <p:spPr>
          <a:xfrm>
            <a:off x="3541680" y="5216400"/>
            <a:ext cx="2305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061640"/>
            <a:ext cx="645804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20DDA-8073-405A-BA95-BBE590CC8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063800" y="1941480"/>
            <a:ext cx="6927840" cy="3113280"/>
          </a:xfrm>
          <a:prstGeom prst="rect">
            <a:avLst/>
          </a:prstGeom>
          <a:ln w="0">
            <a:noFill/>
          </a:ln>
        </p:spPr>
      </p:pic>
      <p:sp>
        <p:nvSpPr>
          <p:cNvPr id="560" name="Elipsa 6"/>
          <p:cNvSpPr/>
          <p:nvPr/>
        </p:nvSpPr>
        <p:spPr>
          <a:xfrm>
            <a:off x="2768760" y="2852640"/>
            <a:ext cx="1773000" cy="53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Šipka dolů 7"/>
          <p:cNvSpPr/>
          <p:nvPr/>
        </p:nvSpPr>
        <p:spPr>
          <a:xfrm rot="5400000">
            <a:off x="6593760" y="2543760"/>
            <a:ext cx="534960" cy="11527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28T07:57:44Z</dcterms:modified>
  <cp:revision>154</cp:revision>
  <dc:subject/>
  <dc:title>Titulní strana – Titulek</dc:title>
</cp:coreProperties>
</file>